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D0D8-7539-4E6E-B3AF-B5485E588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7435-E4A7-4D7A-A2E9-388A205D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E339-B9F8-4BF9-A02B-B19B8D60B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9C45-FDB8-4685-A07F-C3C07FED8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08D1E-B7BF-4DA5-B1E0-D0BB25DAD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17445-A08A-403F-99C5-4CE634202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76ED0-2B55-465E-B8AC-9CE683F19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947D5-55B0-4AE6-8F34-6946CB5A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082E4-A5ED-44B8-9DC7-D063E3D0B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758FF-844F-4B79-B6D3-10BB62797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2026B-FCBE-4895-8FA5-B3E6A707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BC15-4354-47C1-ACFD-1DEA8216A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EC3A8-2AD2-4167-8E8E-65F2C44B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92103-A1F2-43C6-8E32-4B94C654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7C8D9-2009-49F0-A2BA-016FEC53E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24B99-EC18-46BB-95DE-753650364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3C826-9EA7-4EF0-AC06-46E4C1A39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E593-356A-4B20-B5A1-5D008B709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EE1F-9A21-4D0C-8976-739B23055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D73A-9A84-4521-919D-930438891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EB4D-B680-470B-8C2E-4ED5BBDDD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7AFF-A25A-41A3-81C0-580C8A78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76A1-1E23-48D9-A835-ACF7D9BF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8590-DF81-41AE-A658-0C49DABA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F24FF-2C13-4451-A4E5-797BB6CDE4CF}" type="slidenum">
              <a:rPr b="0" lang="lt-L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5FC40-3FAC-49BE-A808-CF46E95B848B}" type="slidenum">
              <a:rPr b="0" lang="lt-L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ASMENYBĖS TEORIJO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778040" y="3781440"/>
            <a:ext cx="6045120" cy="19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INDIVIDUALIOJI PSICHOLOGIJA</a:t>
            </a:r>
            <a:br>
              <a:rPr sz="3200"/>
            </a:b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A.ADLER</a:t>
            </a:r>
            <a:endParaRPr b="0" lang="en-US" sz="3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Menkavertiškumo jausmas, komplek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Organų menkavertiškum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Perdėta glob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Atstūmima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ranašumo siek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Gyvenimo stili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200" spc="-1" strike="noStrike">
                <a:solidFill>
                  <a:srgbClr val="000000"/>
                </a:solidFill>
                <a:latin typeface="Arial"/>
              </a:rPr>
              <a:t>dominavimo gyvenimo stiliu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200" spc="-1" strike="noStrike">
                <a:solidFill>
                  <a:srgbClr val="000000"/>
                </a:solidFill>
                <a:latin typeface="Arial"/>
              </a:rPr>
              <a:t>gavimo gyvenimo stili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200" spc="-1" strike="noStrike">
                <a:solidFill>
                  <a:srgbClr val="000000"/>
                </a:solidFill>
                <a:latin typeface="Arial"/>
              </a:rPr>
              <a:t>vengimo stili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200" spc="-1" strike="noStrike">
                <a:solidFill>
                  <a:srgbClr val="000000"/>
                </a:solidFill>
                <a:latin typeface="Arial"/>
              </a:rPr>
              <a:t>socialiai naudingas gyvenimo stili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INDIVIDUALIOJI PSICHOLOGIJA</a:t>
            </a:r>
            <a:br>
              <a:rPr sz="3200"/>
            </a:b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A.ADLER</a:t>
            </a:r>
            <a:endParaRPr b="0" lang="en-US" sz="3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ocialinis intere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Gimimo eiliškum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Pirmasis vaik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Antrasis vaik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Jauniausias vaik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Vienintelis vaik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BIHEVIORISTINĖS ASMENYBĖS TEORIJOS</a:t>
            </a:r>
            <a:endParaRPr b="0" lang="en-US" sz="3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I.Pavlovas: klasikinis sąlygoj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Oprantinio elgesio teorija (B.F.Skinner): operantinis sąlygojimas, pastiprinimo sche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HUMANISTINĖS PSICHOLOGIJOS ASMENYBĖS TEORIJOS</a:t>
            </a:r>
            <a:br>
              <a:rPr sz="3200"/>
            </a:b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C.ROGERS</a:t>
            </a:r>
            <a:endParaRPr b="0" lang="en-US" sz="3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Organizmas ir bazinė tendencija aktualizuo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atyrimų (fenomenų) lauk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Aš ir Aš suvok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Teigiamo vertinimo poreikis ir sąlyginis vertin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Besąlyginis teigiamas vertin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HUMANISTINĖS PSICHOLOGIJOS ASMENYBĖS TEORIJOS</a:t>
            </a:r>
            <a:br>
              <a:rPr sz="3200"/>
            </a:b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A.MASLOW</a:t>
            </a:r>
            <a:endParaRPr b="0" lang="en-US" sz="3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oreikių hierarch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5.Saviaktualizacijos poreiki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4.Poreikis pagarba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3.Poreikis priklausyti ir meilės poreiki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2.Saugumo poreik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1.Fiziologiniai poreikia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SOCIALINIO MOKYMOSI TEORIJA</a:t>
            </a:r>
            <a:br>
              <a:rPr sz="3200"/>
            </a:b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A.BANDURA</a:t>
            </a:r>
            <a:endParaRPr b="0" lang="en-US" sz="3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Modeliavimas: modelio charakteristikos, stebėtojo charakteristikos, su elgesiu susiję paskatinim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Dėmesys, įsiminimas, atgaminimas, paskatin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avęs pastiprin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avo efektyvumo vertin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0033"/>
                </a:solidFill>
                <a:latin typeface="Tahoma"/>
              </a:rPr>
              <a:t>Z.Froidas</a:t>
            </a: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700360" y="1197000"/>
            <a:ext cx="3600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0033"/>
                </a:solidFill>
                <a:latin typeface="Tahoma"/>
              </a:rPr>
              <a:t>Z.Froidas: asmenybės struktūra</a:t>
            </a: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476000" y="1988640"/>
            <a:ext cx="5832360" cy="3745440"/>
            <a:chOff x="1476000" y="1988640"/>
            <a:chExt cx="5832360" cy="3745440"/>
          </a:xfrm>
        </p:grpSpPr>
        <p:sp>
          <p:nvSpPr>
            <p:cNvPr id="102" name=""/>
            <p:cNvSpPr/>
            <p:nvPr/>
          </p:nvSpPr>
          <p:spPr>
            <a:xfrm rot="10800000">
              <a:off x="1476000" y="1988280"/>
              <a:ext cx="5832360" cy="3745080"/>
            </a:xfrm>
            <a:custGeom>
              <a:avLst/>
              <a:gdLst>
                <a:gd name="textAreaLeft" fmla="*/ 1282320 w 5832360"/>
                <a:gd name="textAreaRight" fmla="*/ 4550040 w 5832360"/>
                <a:gd name="textAreaTop" fmla="*/ 823320 h 3745080"/>
                <a:gd name="textAreaBottom" fmla="*/ 2921760 h 374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579760" y="2702160"/>
              <a:ext cx="362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264400" y="3593880"/>
              <a:ext cx="425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052440" y="2167200"/>
              <a:ext cx="1260720" cy="534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1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lt-LT" sz="2000" spc="-1" strike="noStrike">
                  <a:solidFill>
                    <a:srgbClr val="000000"/>
                  </a:solidFill>
                  <a:latin typeface="Tahoma"/>
                </a:rPr>
                <a:t>Sąmonė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052440" y="2880360"/>
              <a:ext cx="1891440" cy="534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000" spc="-1" strike="noStrike">
                  <a:solidFill>
                    <a:srgbClr val="000000"/>
                  </a:solidFill>
                  <a:latin typeface="Tahoma"/>
                </a:rPr>
                <a:t>Priešsąmonė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37080" y="3772080"/>
              <a:ext cx="2206800" cy="71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1000" spc="-1" strike="noStrike">
                  <a:solidFill>
                    <a:srgbClr val="000000"/>
                  </a:solidFill>
                  <a:latin typeface="Tahoma"/>
                </a:rPr>
                <a:t>      </a:t>
              </a:r>
              <a:r>
                <a:rPr b="0" lang="lt-LT" sz="2000" spc="-1" strike="noStrike">
                  <a:solidFill>
                    <a:srgbClr val="000000"/>
                  </a:solidFill>
                  <a:latin typeface="Tahoma"/>
                </a:rPr>
                <a:t>Pasąmonė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3209760" y="1989000"/>
              <a:ext cx="1103400" cy="3745080"/>
            </a:xfrm>
            <a:prstGeom prst="line">
              <a:avLst/>
            </a:prstGeom>
            <a:ln w="2844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683160" y="4128840"/>
              <a:ext cx="2994840" cy="0"/>
            </a:xfrm>
            <a:prstGeom prst="line">
              <a:avLst/>
            </a:prstGeom>
            <a:ln w="2844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628880" y="2880360"/>
              <a:ext cx="1418400" cy="71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400" spc="-1" strike="noStrike">
                  <a:solidFill>
                    <a:srgbClr val="800080"/>
                  </a:solidFill>
                  <a:latin typeface="Tahoma"/>
                </a:rPr>
                <a:t>EGO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471200" y="4489200"/>
              <a:ext cx="1733760" cy="89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12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lt-LT" sz="2400" spc="-1" strike="noStrike">
                  <a:solidFill>
                    <a:srgbClr val="800080"/>
                  </a:solidFill>
                  <a:latin typeface="Tahom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103480" y="3950640"/>
              <a:ext cx="1418400" cy="12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400" spc="-1" strike="noStrike">
                  <a:solidFill>
                    <a:srgbClr val="800080"/>
                  </a:solidFill>
                  <a:latin typeface="Tahoma"/>
                </a:rPr>
                <a:t>SUPER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400" spc="-1" strike="noStrike">
                  <a:solidFill>
                    <a:srgbClr val="800080"/>
                  </a:solidFill>
                  <a:latin typeface="Tahoma"/>
                </a:rPr>
                <a:t>EGO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0033"/>
                </a:solidFill>
                <a:latin typeface="Tahoma"/>
              </a:rPr>
              <a:t>Z. FROIDO PSIHOANALITINĖ ASMENYBĖS TEORIJA</a:t>
            </a:r>
            <a:endParaRPr b="0" lang="en-US" sz="3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smenybės struktūra: id, Ego, Super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Id: malonumo principas, refleksyvūs veiksmai, pirminiai procesa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Ego (Aš): realybės principas, antriniai psichiniai procesa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Superego: introjekcijos mechanizm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0033"/>
                </a:solidFill>
                <a:latin typeface="Tahoma"/>
              </a:rPr>
              <a:t>Z. FROIDO PSIHOANALITINĖ ASMENYBĖS TEORIJA</a:t>
            </a:r>
            <a:endParaRPr b="0" lang="en-US" sz="3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Ner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Ego gynybiniai mechanizma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Išstūmim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Projekc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Reakcijos formavim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Fiksac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Regres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Identifikac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Pakeitimai (pvz., sublimacij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Asmenybės raidos stadijos pagal </a:t>
            </a:r>
            <a:br>
              <a:rPr sz="3200"/>
            </a:br>
            <a:r>
              <a:rPr b="0" lang="en-GB" sz="3200" spc="-1" strike="noStrike">
                <a:solidFill>
                  <a:srgbClr val="330033"/>
                </a:solidFill>
                <a:latin typeface="Tahoma"/>
              </a:rPr>
              <a:t>Z. </a:t>
            </a: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Froidą</a:t>
            </a:r>
            <a:endParaRPr b="0" lang="en-US" sz="3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Vystymosi stadij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Oralinė (nuo gimimo iki 18 mėn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Analinė (18 mėn. – 3 m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Falinė (3-6 m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Edipo, Elektros kompleksa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Latentinė (6-12 m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Genitalinė (ėmus lytiškai bręsti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835280" y="765000"/>
            <a:ext cx="50418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ANALITINĖ (gelmių) PSICHOLOGIJA</a:t>
            </a:r>
            <a:br>
              <a:rPr sz="3200"/>
            </a:b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C.G. JUNG</a:t>
            </a:r>
            <a:endParaRPr b="0" lang="en-US" sz="3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smenybės struktūra: Ego, individuali pasąmonė, kolektyvinė pasąmon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Kolektyvinė pasąmonė: archetipa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Perso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Anima ir Anim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Šešėl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Savast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ANALITINĖ (gelmių) PSICHOLOGIJA</a:t>
            </a:r>
            <a:br>
              <a:rPr sz="3200"/>
            </a:b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C.G. JUNG </a:t>
            </a:r>
            <a:endParaRPr b="0" lang="en-US" sz="3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Ekstraversija ir intravers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Mąstymas, jausmai, pojūčiai ir intui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smenybės vystymas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Vaikystė ir jaunyst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Vidutinis amžius ir senatv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12:59:09Z</dcterms:created>
  <dc:creator>TADAS</dc:creator>
  <dc:description/>
  <dc:language>en-US</dc:language>
  <cp:lastModifiedBy> </cp:lastModifiedBy>
  <dcterms:modified xsi:type="dcterms:W3CDTF">2007-11-06T14:30:22Z</dcterms:modified>
  <cp:revision>17</cp:revision>
  <dc:subject/>
  <dc:title>INDIVIDAS IR ASMENYBĖ</dc:title>
</cp:coreProperties>
</file>